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11C-C7F8-47EB-927A-354ABFF6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66D-EE08-4B05-A098-8268EEFB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18D7A-E5D7-45BC-A67E-9CDCE910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13951-562F-4E5D-8083-0AFDC622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5FF9A-29D5-48C6-8285-460301AD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25D46-968A-4258-9FE8-20731EE6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E9EF4-8494-476C-9609-964810CC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34007-EC40-4459-9114-B4D32270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CFE56-B642-49B4-841A-BC184004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EA002-C172-4C26-A704-F8E70812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1C071-9CCD-4293-AF6E-3742C4B8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0A7BF-1182-42AF-B2BA-DEB7637D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5C3-5D3C-462B-822F-686CABD8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B07A9-CC67-4E2B-9965-137B6AC8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EA30B-8D93-4D2A-9E65-B4E16438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20588-14CE-48FC-9201-255F963E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234F2-5DDA-48A6-8809-B22BB45D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54D9F-AA1D-45B6-84B9-739D60BE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F4C47-697D-4ED8-BB82-69AC865A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FB9D6-9907-4C98-AEE0-D7049C89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44599-231F-4517-97D7-1958605C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5B9B0-D9B3-4BA5-A33B-85550939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397D9-6A46-41AC-B1B5-804D6B68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99E-66F8-4EDD-92AD-5D676E1F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A85EB-55C7-4FF1-AA8A-48FB8AED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F2B1C-A8DC-461A-B6EE-04E7E42F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AA309-59AF-4736-A6B7-66E3269C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1C265-DA30-4A1E-8CD9-07C09D78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9183E-0AAD-4C2A-9D28-32A6C503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CD546-4A44-4435-9B90-53B1E1C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A6582-543F-47B0-8895-249393F6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03250-08E4-48F6-8F8D-688316BB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60D3F-3CC2-4B6C-864F-7C8642D2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FA11B-D350-4A6B-B3DD-E4D3EFA9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40C4-F9EF-4CFC-9EEF-A6D034BF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9EC5A-69EC-49A2-8B5E-9443974C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B03D6-B537-45C9-BFAF-0A933F6C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9B402-9F0C-4600-8FDF-18268238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D81A6-05C3-4397-A576-53FF4444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432DE-4B5C-4D04-BD3A-56279261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752D5-0260-420C-9BB3-DA1D349F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6098B-8688-46A0-89D8-C6721F4D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4441A-DCF7-4067-9DD4-5E65778F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DF582-6042-4C88-AC78-9BD851CB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F1C37-6BE9-4E0F-92C2-6145BE51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CD0C-6A1D-4B27-9349-42AE6EA0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679F8-3774-4248-8A5B-0E9409E0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D2D67-95E2-4F4B-89BF-C338F3CF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936A1-159A-49ED-9245-94C5C8D6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D93DA-46E5-4279-B232-736BABED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BE215-6B4D-4371-8D84-7F80F985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DCCB-6008-4D89-8A0D-A346DBB7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488F-B8D2-4DDC-B3D0-32E08429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85BE-AE46-44E4-B649-CE08E086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E153-E0A3-4DA3-AABF-5857229A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402C-90CB-4931-830A-0E6E367B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1C6-4779-4AA8-8129-B30CBC44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49F2-0D0A-472B-82F9-00E07FF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AE5A-DD4A-4F47-B0D8-05228E48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21F2-2040-4169-88D1-763AB7BE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5F06-452D-4A3D-BA9E-CD09988F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7AE7-C757-44BE-AF21-92BADB69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2F2E5-414E-4B0E-9A67-8CBBFD94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0D33-7CD5-458F-8AEE-6CF9FF46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CD154-5C93-4141-B326-643A9860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C465-18EB-4C93-9198-3F67B5C1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7D41-95A9-4E70-A2D0-871D122A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826-E074-495A-89AD-1CC54822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78A6-D86E-4904-A45B-C354B1C6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7DFC0-FC4F-4043-A2CA-2FF5D47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AA599-AC64-4D2F-B44D-5D5EF337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6D29-8F74-4693-AC3F-D34B4089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EF88-FAAA-490F-9428-C9324F47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4F6E-32D5-44E1-9A9E-7ADC1E0B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96D2-A477-4932-B5EB-10D0C0BD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C393-933B-42F0-B04C-AF58337A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5891C-5A71-4176-8FE2-6620C5C1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F3693-7417-4C69-B293-72C52F50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A56-F39F-4008-9067-F2D701CB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0839-9646-4398-B0D6-5176472A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8B393-66A8-4312-A438-2EC20AC4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318E-03D3-4038-8615-CEB3CA1F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984A-840D-47D4-A137-2DC76D86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B1157-E82E-4215-95CC-53910FD6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9A2E7-18B0-4855-8CC1-4EB253B0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16F18-A09B-4A1D-9F8A-1C93B19A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B59A6-25D0-4D1B-8AFD-0EF00EFF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45B1-FC4F-41CA-BE4A-B7226BE7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9808-89AA-4F5F-B544-5662412F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1F2-98A9-48AF-8E32-B815102D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5EE1-98C9-4C2E-9D8C-2EA33C4C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167E9-8765-4049-B12C-FF097DEF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C5E5B-138D-4428-BD88-8BBD18AB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3EBFA-9620-4E06-A08B-5ECDF587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04E27-61D9-4148-9F39-B97E459A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BB48E-CF81-4BC4-B1A8-D07131F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B83F9-4C1B-4F5A-8045-593CC139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EE9B8-BF28-4274-9D95-BAE7ADD3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4C028-3648-489C-A2EC-09CBA2EE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08A34-548E-49DB-9C8B-5DFA7CB1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B58-601D-40C2-B1AC-B5BAA334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881C9-6518-4143-BA69-128F9077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6FFD3-D2A6-4D88-B1DC-9EE18B7A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5ADE8-EE31-4EE6-B2BC-C723154C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DC41C-4793-4F57-B2EB-C4F381E5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54E56-464A-47BA-BBCF-A32F32AF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2B3DF-AF7D-4FE2-BC57-8EFF1421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BC8C3-F971-4BDF-98CD-6447BB3B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003E7-8D0F-4FDD-AF86-0EE1485B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D12D7-11FF-42ED-BFF6-F15FC87C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30F74-7FDC-4AD9-AA37-4BBC1014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562-AE0B-4E3E-B2E7-B036DDBB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E7EBD-6481-4FD3-A3DE-B6E9CAE8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AE4F5-4623-432B-9503-58A5796A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16038-16C3-43E5-8881-BAEB9DB8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5FDED-FD8F-454D-8A68-BC9C5250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8E6E1-9E7C-4310-8813-56B1B52D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E3FE8-40D2-4102-8343-A08261FF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DBA12-069E-45A6-8F60-F807B8D1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92E2F-5867-4A30-89BD-A76C0C6E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AA236-AAB9-4E64-A637-DB6E3011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31F7C-1E42-42F8-96A4-4B4D4672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D57-7885-42E3-9B32-C9638595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3480E-5E69-4562-9ADC-C74DB982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54F05-7187-4204-96FE-DBD4B985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0DA1A-9CB7-4768-9A59-4E226F77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646BD-E1F9-4B60-A35F-B299913B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383BC-53A9-4688-BE60-2FAFE3F9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B4291-BAFC-4D43-9C3E-43B99C5A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3EC98-EF2A-4AC6-9901-B880F4BA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24DC0-F99D-418C-B84B-1B4D9E6A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BF9A5-6D9E-45BF-AE09-EF88FF82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8100D-67B4-4422-AE3C-0D9FE527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204-3A6D-4868-B113-6B10FB20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7F990-506D-4730-A4CD-306F1047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2FE3C-754E-4C1D-A697-9CE122BB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C2AC0-A4A4-4632-9F58-D0798F2F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1A890-BB0D-416E-9CBE-BBE4DA4A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50765-2298-4FD7-8644-BD8349B7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FE2D3-6D22-49D3-82FC-59116376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B1F73-FB11-40B5-A9AF-132262C4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9B72D-9FE6-4A28-8BA9-F5BACCB7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E0A73-A1B0-4438-8BA2-5E4EC293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C19BC-8675-4282-9939-7B0076D2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9378-24B0-47DD-BA7B-FE0996463D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832F-B527-4F0E-BC07-45F8F32A32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FF1F-D56C-44A8-877F-D891E28E7A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20CC-94FF-4C0B-AFC3-30A2EF7147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D5D2-886C-4B74-AEF1-B29634DA6F0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E60A-AF5D-472C-AE68-0CCAA47DCC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5E35-6F1C-41D3-95CA-8C54AE0CAD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5424-7604-4601-B831-80A07C262F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5A32-A8AF-4AB1-949A-DCA4AA6271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1456-6BED-45E3-85BC-7A6C1809DC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5A08-C0FC-4599-B854-6F1CA82C5F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A565-4B11-42EB-94A2-52A01C59C5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33 Vykupit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môj jedi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ykupiteľ môj jedi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y si mi spásu vydoby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a mňa si zomrel nevin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aby som s tebou večne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ám Slovo tvoje, pravdy zd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toré si nadovšetko ce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ňom viere mojej dávaš zb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 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u v pokušeniach v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zím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Života chlieb len v tebe mám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ty mannou z neba sám si,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  <a:ea typeface="Arial"/>
              </a:rPr>
              <a:t>viem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učivý smäd už nepoz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zo živej vody piť keď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Keď žijem s tebou zmier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 srdci sa pokoj rozhos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môžem byť stále radost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prijímať hojnosť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v tvoju pomo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úfať sm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tu, v sveta púšti, nie som s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 máš ma rád, to dobre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stný som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 m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5:41:15Z</dcterms:modified>
  <cp:revision>23</cp:revision>
  <dc:subject/>
  <dc:title>Je veľký náš Pán, on slávy je Kráľ Nech do všetkých strán  spev vrúcnych znie chvál.</dc:title>
</cp:coreProperties>
</file>